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237-9711-4A08-B770-F28C52E2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E08-ECC0-4F38-8859-C656E67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A11-BE97-4FC2-91B3-2E0A5C2D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D02-B091-4F70-8ABF-958D1D39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443-CAD3-4218-8121-525AB3F7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0D4-7BBE-4A59-AB83-9EDF7216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139-6B69-4630-A993-105AAB4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FFD-B8FF-4358-952D-F818407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FF2-E6BF-4CFC-93B1-931A7972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701-A000-4594-A9DF-31469F57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C78-801F-49EC-B2A5-3C44366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283-BF4A-4345-B061-367A8B6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74D-5051-4836-AF55-3BF747CE9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Distance vs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yote" descr=""/>
          <p:cNvPicPr/>
          <p:nvPr/>
        </p:nvPicPr>
        <p:blipFill>
          <a:blip r:embed="rId1"/>
          <a:stretch/>
        </p:blipFill>
        <p:spPr>
          <a:xfrm>
            <a:off x="304920" y="0"/>
            <a:ext cx="1492200" cy="1773360"/>
          </a:xfrm>
          <a:prstGeom prst="rect">
            <a:avLst/>
          </a:prstGeom>
          <a:ln w="0">
            <a:noFill/>
          </a:ln>
        </p:spPr>
      </p:pic>
      <p:pic>
        <p:nvPicPr>
          <p:cNvPr id="43" name="RRunner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498320" cy="159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7400" y="990720"/>
            <a:ext cx="4495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11430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80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meters east in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1828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eters south in 1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5053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travele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114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411480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715000"/>
            <a:ext cx="25905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5791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579132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Vector mathematics is different than scalar 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must be drawn to scale and connected head-to-tail.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ul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066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al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an be added with regular math. 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352680"/>
            <a:ext cx="17528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362320" y="53337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3341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962520" y="464796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81120" y="45720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143000" y="48006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oyote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914400" cy="1087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Runn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87360" cy="1368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9320" y="533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33520"/>
            <a:ext cx="15242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142640" y="609120"/>
            <a:ext cx="42670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1295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arvin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1208160" cy="1417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2860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 runner travels 5 miles before Marvin sends him back.  Road runner takes a shortcut back that saves him a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86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hole round trip took 1 hour,  what is roadrunner’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speed?                             b) displacemen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30492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runner  runs 500 meters due east and 1000 meters due south. Find the distance and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4812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plane travels 3000 miles from California to New York in  5 hours, stays in NY 1 hour to refuel, then flies back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verage speed and average velocity for the round trip fligh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0"/>
            <a:ext cx="830592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rection chang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velocity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average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0666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05120"/>
            <a:ext cx="8610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;  Wilbert drives 2.0 km east in 15 minutes to make a delivery.  He then goes 3.0 km west in 20 minutes to make a delivery to the other side of t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Wilber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verage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his 35 minutes of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37_" descr=""/>
          <p:cNvPicPr/>
          <p:nvPr/>
        </p:nvPicPr>
        <p:blipFill>
          <a:blip r:embed="rId1"/>
          <a:stretch/>
        </p:blipFill>
        <p:spPr>
          <a:xfrm>
            <a:off x="8051760" y="5410080"/>
            <a:ext cx="84456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bd00051_" descr=""/>
          <p:cNvPicPr/>
          <p:nvPr/>
        </p:nvPicPr>
        <p:blipFill>
          <a:blip r:embed="rId2"/>
          <a:stretch/>
        </p:blipFill>
        <p:spPr>
          <a:xfrm>
            <a:off x="609480" y="5168880"/>
            <a:ext cx="14479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d00051_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47920" cy="1405080"/>
          </a:xfrm>
          <a:prstGeom prst="rect">
            <a:avLst/>
          </a:prstGeom>
          <a:ln w="0">
            <a:noFill/>
          </a:ln>
        </p:spPr>
      </p:pic>
      <p:pic>
        <p:nvPicPr>
          <p:cNvPr id="92" name="bd05037_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8445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36:56Z</dcterms:created>
  <dc:creator>mfrancesco</dc:creator>
  <dc:description/>
  <dc:language>en-US</dc:language>
  <cp:lastModifiedBy>socsd</cp:lastModifiedBy>
  <dcterms:modified xsi:type="dcterms:W3CDTF">2005-09-20T13:47:11Z</dcterms:modified>
  <cp:revision>5</cp:revision>
  <dc:subject/>
  <dc:title>PowerPoint Presentation</dc:title>
</cp:coreProperties>
</file>